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428-D454-4A6B-9F88-2EB1D29B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435-37F1-4D97-AE3E-9F61BC2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D97-9955-4E50-8AF9-83ABA9CB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A83-5422-4ADB-999F-7BB208F3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165-19B5-484B-8E28-0FCE4307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EC1-B213-4C5D-A41F-8E259562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E25-F76C-4657-A1F4-34572BA2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D48-A32D-41C6-82E8-5062855B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043-C398-4521-8205-77D3072D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09C-2FD7-4434-BB9F-DB702102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A31-A348-4C54-AC47-7B226EC5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2C7-2849-4973-B2BA-271FDD8B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1972-C32E-4A39-B2D5-5E437C985B8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甦醒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waken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甦醒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waken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甦醒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waken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29:44Z</dcterms:created>
  <dc:creator> </dc:creator>
  <dc:description/>
  <dc:language>en-US</dc:language>
  <cp:lastModifiedBy> </cp:lastModifiedBy>
  <dcterms:modified xsi:type="dcterms:W3CDTF">2004-06-16T01:30:10Z</dcterms:modified>
  <cp:revision>1</cp:revision>
  <dc:subject/>
  <dc:title>甦醒 (1/3)  [Awakening]</dc:title>
</cp:coreProperties>
</file>