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0E4-5CED-4D89-957F-4F41508F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3AB-B64A-491C-9545-69CD35ED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40C-532A-4AEC-89AF-77BB55DD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962-7A08-4CF0-B14A-82A82E88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2BF-C022-4C05-95F1-4784208B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D96-B8E2-4785-AAF5-13ABEA89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CDE-5A0D-432C-BA12-4CF42B78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401-5CE1-4F4D-8B75-8A99E70A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ED5-39AD-4F8E-A884-BABAFDEE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594-5F3D-4657-A7FA-5AF26D7F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FBB-25C5-46D9-92AC-144D09E7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527-E238-4EE5-838F-380E89DF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3A48-0499-42CD-A5EC-20F4F687B4B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序曲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1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rship Pre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59:32Z</dcterms:created>
  <dc:creator> </dc:creator>
  <dc:description/>
  <dc:language>en-US</dc:language>
  <cp:lastModifiedBy> </cp:lastModifiedBy>
  <dcterms:modified xsi:type="dcterms:W3CDTF">2004-06-17T00:59:38Z</dcterms:modified>
  <cp:revision>1</cp:revision>
  <dc:subject/>
  <dc:title>序曲 &lt;1/1&gt; Worship Prelude</dc:title>
</cp:coreProperties>
</file>