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B434-60D0-4602-914E-67977E4E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0F18-E4E5-42B7-900C-53D22DE5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F84D-90EA-45C4-BFC8-D2E89F57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8E35-4481-45D7-84BC-4A2776C4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56C-0BA4-4347-96D5-7A099056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A69-C75B-4E36-A0F7-67B02445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58D-7D0D-4FED-8CD6-8FD41A30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FCD-E96D-4A20-84F7-0612D3CC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242-B02F-470C-A566-D8ACB01B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4843-CED5-43A3-BA6C-84874557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938-38D1-4B82-BE99-B9BF7AE4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C44-2AE1-4824-A440-444372B0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A03C-371D-4924-9119-2E44223F44E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尋找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Searching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尋找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Searching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尋找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3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Searching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1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0:48:26Z</dcterms:created>
  <dc:creator> </dc:creator>
  <dc:description/>
  <dc:language>en-US</dc:language>
  <cp:lastModifiedBy> </cp:lastModifiedBy>
  <dcterms:modified xsi:type="dcterms:W3CDTF">2004-06-16T20:48:53Z</dcterms:modified>
  <cp:revision>1</cp:revision>
  <dc:subject/>
  <dc:title>尋找 (1/3) [Searching]</dc:title>
</cp:coreProperties>
</file>