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6F2-8CAE-46D3-8337-5A8DB79F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DAF-D19B-450D-924F-5C0D8623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8FC-9A3A-407D-BEC2-AE644C52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979-C9D4-4EEB-B7FF-B5A9F362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20C-D955-4DB6-BFF2-2F460FE0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7C2-15C3-4223-AD58-A6A9F194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1F3-F4DB-4227-8E6D-7A93AC58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E03-5C61-45E7-B526-4A164CE4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347-A503-4220-B59D-9A53A87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EB7-EEEB-4FBB-BD71-487EF0E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B4F-25E9-4697-9678-7BB1446D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6C8-6A2F-4D73-9EF4-8F0CB6E4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47C-393B-4B09-8547-5F689F2FB8F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0:25Z</dcterms:created>
  <dc:creator> </dc:creator>
  <dc:description/>
  <dc:language>en-US</dc:language>
  <cp:lastModifiedBy> </cp:lastModifiedBy>
  <dcterms:modified xsi:type="dcterms:W3CDTF">2004-06-16T01:31:14Z</dcterms:modified>
  <cp:revision>1</cp:revision>
  <dc:subject/>
  <dc:title>起來吧 (1/3)  [Arise!]</dc:title>
</cp:coreProperties>
</file>