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1A4B-1E17-4F4D-B06E-F06CCE8B3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CD8A-8692-459B-A09B-14281EF8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35BA-B7E0-43F2-A55B-1CBC6431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44ED-06F2-44BB-BAD9-6CE38CAD7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64A1-70CD-4875-B5F6-91E4A9AC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A417-DF68-4433-BE44-2EF8523A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8E99-A8BD-4538-A16F-64CCE138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735D-0F99-425E-8B0B-CBEC5FE4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8031-8CC6-430D-8D33-2DEC1538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70B1-1076-46BE-A593-E9BE1ECA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61BD-5C13-4204-805F-14ABD75C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0D44-8416-4920-A2F2-E3A08D4C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2C35-ACB2-45D4-A7C7-6C11EEE89C08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是耶穌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1/2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It’s Jesus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3" name=""/>
          <p:cNvSpPr/>
          <p:nvPr/>
        </p:nvSpPr>
        <p:spPr>
          <a:xfrm>
            <a:off x="655200" y="6267600"/>
            <a:ext cx="114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彩虹下的約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是耶穌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2/2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It’s Jesus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7" name=""/>
          <p:cNvSpPr/>
          <p:nvPr/>
        </p:nvSpPr>
        <p:spPr>
          <a:xfrm>
            <a:off x="655200" y="6267600"/>
            <a:ext cx="114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彩虹下的約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20:49:04Z</dcterms:created>
  <dc:creator> </dc:creator>
  <dc:description/>
  <dc:language>en-US</dc:language>
  <cp:lastModifiedBy> </cp:lastModifiedBy>
  <dcterms:modified xsi:type="dcterms:W3CDTF">2004-06-16T20:49:10Z</dcterms:modified>
  <cp:revision>1</cp:revision>
  <dc:subject/>
  <dc:title>是耶穌 (1/2) [It’s Jesus]</dc:title>
</cp:coreProperties>
</file>