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E6A-CAFA-4A39-A4AA-0FEE4A03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862-734F-47E6-93C9-920D9478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2CF-0353-456D-B261-49EF0020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167-E79F-4FE6-AD8A-435F8377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920-772E-469C-929A-AE4BCAD3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E6B-84EF-493D-8D76-02413C18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A68-F74D-4779-9AD5-87CF9C75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3FC-41E3-43DA-94EC-41347349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0C0-E7E0-491C-B24D-8918565F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7B4-DA98-4674-82C9-B66A034F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AAC-99E5-49C6-9027-FC8C2F86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3F0-004A-4324-BCF8-AC82BBD5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99B6-1750-4BFA-9CFE-E457A220ECB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陪我走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1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Walk With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陪我走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2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Walk With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陪我走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3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Walk With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50:07Z</dcterms:created>
  <dc:creator> </dc:creator>
  <dc:description/>
  <dc:language>en-US</dc:language>
  <cp:lastModifiedBy> </cp:lastModifiedBy>
  <dcterms:modified xsi:type="dcterms:W3CDTF">2004-06-16T21:50:13Z</dcterms:modified>
  <cp:revision>1</cp:revision>
  <dc:subject/>
  <dc:title>陪我走 &lt;1/3&gt; Walk With Me</dc:title>
</cp:coreProperties>
</file>