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08A-6C02-4974-82AF-556395CB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3F6-66BF-4D57-8B00-7636B623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1F1-5262-4AC5-9336-EF2A063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3CF-5793-46D9-9D0A-9D1CA331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AA3-B0C1-4056-B4B4-206CB3F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CF7-C714-4D26-A47F-5BF74FC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F88-7096-4F2E-9201-B7400B16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B4B-0DA0-430E-A153-EB2ED5ED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A1E-08A7-4ED0-BC93-C7D6483F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D9A-2DA0-4756-9069-13CDAC1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E7E-FF9E-4C7A-97C2-E226388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D29-E895-411F-8027-A302DE5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C4C-48F6-43A3-9651-1B60D9A390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          </a:t>
            </a:r>
            <a:r>
              <a:rPr b="0" lang="zh-TW" sz="4400" spc="-1" strike="noStrike">
                <a:solidFill>
                  <a:srgbClr val="000000"/>
                </a:solidFill>
                <a:latin typeface="Gill Sans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4:45Z</dcterms:created>
  <dc:creator> </dc:creator>
  <dc:description/>
  <dc:language>en-US</dc:language>
  <cp:lastModifiedBy> </cp:lastModifiedBy>
  <dcterms:modified xsi:type="dcterms:W3CDTF">2004-06-08T23:14:56Z</dcterms:modified>
  <cp:revision>1</cp:revision>
  <dc:subject/>
  <dc:title>慈愛天父〈1/2 〉 God of Mercy</dc:title>
</cp:coreProperties>
</file>