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6E8-4587-424B-B87F-B92689B2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62D-C6BB-44B5-B78D-E2D3BF4B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65AB-EB90-446C-8503-07F4BE70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9ED-530F-4831-B101-E60157D1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9C8-BC54-4E7A-9572-290FAA7B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1F1-BB18-44E8-A3F6-36ACBDAB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815-0315-4029-BA06-C6BF0BE7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32D-FD16-42D8-B69C-067702C7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0F5-2E9C-4DF2-B4CD-7CF3AEBF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3D8-1E1C-431B-AA38-82960042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635-A547-4822-A3B3-A73F769C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DAE-8828-4E71-B19F-37BE4474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3583-9A7F-4620-A370-159B14C2269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愛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 Loves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愛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 Loves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59:57Z</dcterms:created>
  <dc:creator> </dc:creator>
  <dc:description/>
  <dc:language>en-US</dc:language>
  <cp:lastModifiedBy> </cp:lastModifiedBy>
  <dcterms:modified xsi:type="dcterms:W3CDTF">2004-06-17T01:00:22Z</dcterms:modified>
  <cp:revision>1</cp:revision>
  <dc:subject/>
  <dc:title>耶穌愛你 &lt;1/2&gt; Jesus Loves You</dc:title>
</cp:coreProperties>
</file>