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15F-37A9-4590-8323-58F459B5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FB2-2B90-46FF-A5A4-D0968BB2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161-3782-4BAA-AB2A-C8D5977B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D54-7562-44B3-8705-088C9F4F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FF9-8D25-4A9B-A9E6-BCD925A8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902-A1B2-4850-B4DF-177F2E02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95A-7B41-4A90-9328-0CA04431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1D4-E8EA-4A98-9D11-AD83BEF9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259-4145-402F-A617-37F2F279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9E0-E1E1-4447-A892-5DDE78C6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363-C0C4-4C4F-AC49-0CC775F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A20-D839-447B-A7F8-3DDDC4DC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1D2A-3569-4035-85E9-230A885310D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6:59Z</dcterms:created>
  <dc:creator> </dc:creator>
  <dc:description/>
  <dc:language>en-US</dc:language>
  <cp:lastModifiedBy> </cp:lastModifiedBy>
  <dcterms:modified xsi:type="dcterms:W3CDTF">2004-06-15T23:37:23Z</dcterms:modified>
  <cp:revision>1</cp:revision>
  <dc:subject/>
  <dc:title>Slide 1</dc:title>
</cp:coreProperties>
</file>