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79F-5790-4362-B1B2-BF84FF78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737-2DC7-4A57-B64F-5D2D8908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3E8-2471-44C4-B05D-7C1E9A3E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76F-70DA-487B-80C8-9C3C5547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D39-59E1-4B31-9CF2-AE7E6C28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C69-A724-45B7-B114-565A331A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BBE-74D5-4754-8811-512E113D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2D1-FAA4-4960-B9BD-77C46686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22C-CB3E-4CF8-830D-59488200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5A7-ACC9-403F-B10D-1F30CBD0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460-39F1-44EB-9A39-2D97A45A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FC7-15DC-40B3-B31E-26E2C87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182-DBB2-4E97-8B17-645E9355867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新的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 New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新的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 New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新的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 New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45Z</dcterms:created>
  <dc:creator> </dc:creator>
  <dc:description/>
  <dc:language>en-US</dc:language>
  <cp:lastModifiedBy> </cp:lastModifiedBy>
  <dcterms:modified xsi:type="dcterms:W3CDTF">2004-06-17T00:59:50Z</dcterms:modified>
  <cp:revision>1</cp:revision>
  <dc:subject/>
  <dc:title>全新的你 &lt;1/3&gt; A New You</dc:title>
</cp:coreProperties>
</file>