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907-EB24-41D8-A099-20CFE8EC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3EB-4A6B-4DBA-8703-E256AC2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26C-EBAD-4F50-A651-A4667899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C77-E8C7-43EC-8654-2A1A7307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0E7-60C0-4F26-92BA-EBD674B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01C-CB12-4CCB-93F0-86976ECB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5A4-068F-4B54-BD2C-EBB682E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639-4B04-4E2A-B3AA-6A4D57C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347-63D0-4BFE-84D4-5119F9A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751-AB9B-4548-94F7-99A577C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C15-875A-4EE4-B8A5-3D887F2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181-3180-4436-AB48-7070669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B1F-AC3B-4F27-A12D-812587AE3EE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8:22Z</dcterms:created>
  <dc:creator> </dc:creator>
  <dc:description/>
  <dc:language>en-US</dc:language>
  <cp:lastModifiedBy> </cp:lastModifiedBy>
  <dcterms:modified xsi:type="dcterms:W3CDTF">2004-06-16T21:48:32Z</dcterms:modified>
  <cp:revision>1</cp:revision>
  <dc:subject/>
  <dc:title>奇妙的愛 &lt;1/3&gt; Amazing Love</dc:title>
</cp:coreProperties>
</file>