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704-2043-4025-A45A-03F39F0C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557-C988-4C76-889A-C1332CE8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11D-6E0E-4077-8A4B-5B42E210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D9D-A007-48D8-84B6-41DC01F8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267-6913-4BCA-B42F-6551EB9A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E51-D778-434F-94A6-14DEE7A1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4D8-B331-4A6F-9FE7-ECBF8C0C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3C4-ABC0-4148-9D23-812BBC57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3AF-53A4-4470-BDF1-2CC8DF91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30B-737B-4B3C-A3AF-CAE5282C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78A-862A-4A19-84ED-7E3DE940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923-30A3-4B80-98B0-1B10AE9D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F556-943C-444A-AF6A-916895A6924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興起發光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 and Shin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興起發光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 and Shin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興起發光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 and Shin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1:29Z</dcterms:created>
  <dc:creator> </dc:creator>
  <dc:description/>
  <dc:language>en-US</dc:language>
  <cp:lastModifiedBy> </cp:lastModifiedBy>
  <dcterms:modified xsi:type="dcterms:W3CDTF">2004-06-16T01:31:41Z</dcterms:modified>
  <cp:revision>1</cp:revision>
  <dc:subject/>
  <dc:title>興起發光 (1/3)  [Arise and Shine]</dc:title>
</cp:coreProperties>
</file>