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8B2-B5D6-4EDB-9BC3-F1542E68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700-9E55-45AC-8308-722B4178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5EA-6FE6-4ED3-8D1F-985D3D41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2FA-63BC-48C2-84E9-EE37EB89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745-5A72-41E2-A338-890B228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BDD-D9C7-4BAD-A064-BC0EA3F8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1C7-EEDB-4B4E-AD19-C684F47F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B3E-A2B9-442A-9B2E-F206520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CB1-15B9-4952-8494-F5378771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0F4-62BB-494B-AB49-4FFD1FD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ECD-EF28-4656-AD2C-84708464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0B3-2C9F-4D44-8790-9DE4279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3604-FCA3-4940-9E69-F25BFF17362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9:37Z</dcterms:created>
  <dc:creator> </dc:creator>
  <dc:description/>
  <dc:language>en-US</dc:language>
  <cp:lastModifiedBy> </cp:lastModifiedBy>
  <dcterms:modified xsi:type="dcterms:W3CDTF">2004-06-16T21:49:50Z</dcterms:modified>
  <cp:revision>1</cp:revision>
  <dc:subject/>
  <dc:title>秋雨之福 &lt;1/4&gt; Autumn Blessings</dc:title>
</cp:coreProperties>
</file>