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957-78EB-4DCE-B3B2-D0323665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89B-5FEB-41A5-8649-77D8FE4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86F-1E3B-4AF2-A0EC-5D0C321B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F3F-9357-4B35-B12D-CD3EAEB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739-5E64-4529-9E24-65B04DB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A16-9A83-4898-B939-D2CC0F6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F25-FB88-41EF-B6EF-FB97B7F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B85-BE7C-4116-92CD-6217298A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50A-88F0-414A-B6FB-F433701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DEB-AE16-424A-8BE8-24E664C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C95-26D6-40C0-BAFD-2CC8FFC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38E-62EF-40FA-A274-CD0E876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BF05-B53E-44EA-AEC4-8CF57D663C4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33Z</dcterms:created>
  <dc:creator> </dc:creator>
  <dc:description/>
  <dc:language>en-US</dc:language>
  <cp:lastModifiedBy> </cp:lastModifiedBy>
  <dcterms:modified xsi:type="dcterms:W3CDTF">2004-06-15T23:38:37Z</dcterms:modified>
  <cp:revision>1</cp:revision>
  <dc:subject/>
  <dc:title>Slide 1</dc:title>
</cp:coreProperties>
</file>