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4142-A2B1-48DA-AC84-4676B75B3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C507-8236-43C5-AD1F-5B13A55FB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4E3F-469F-4598-99F9-A7EC70BB5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84E6-F78D-442B-826D-FD0D54881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96F3-08D5-4D8A-8E6A-108FC2027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B7EB-89EF-47DA-851F-D8E6C9994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C5B2-6B77-464E-A37F-DBFBEAABA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BAA8-5D75-4053-B6F1-AAFF63A6D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4F9F-C09F-4E31-AAC4-040077F64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8C46-50AA-436F-8F6B-49F7685B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BC22-5962-4A5E-96B1-FFAD9C4F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6709-0BC1-4234-9788-BE208146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0EEBD-259A-49E2-AE9F-BACB2D4E9095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全真中黑體"/>
              </a:rPr>
              <a:t>深深愛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〈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1/3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〉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Deeper In Lo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全真中黑體"/>
              </a:rPr>
              <a:t>深深愛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〈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2/3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〉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Deeper In Lo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全真中黑體"/>
              </a:rPr>
              <a:t>深深愛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〈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3/3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〉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Deeper In Lo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8T23:13:27Z</dcterms:created>
  <dc:creator> </dc:creator>
  <dc:description/>
  <dc:language>en-US</dc:language>
  <cp:lastModifiedBy> </cp:lastModifiedBy>
  <dcterms:modified xsi:type="dcterms:W3CDTF">2004-06-08T23:14:09Z</dcterms:modified>
  <cp:revision>1</cp:revision>
  <dc:subject/>
  <dc:title>深深愛〈1/3 〉 Deeper In Love</dc:title>
</cp:coreProperties>
</file>