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DF85-404F-4E80-ACCF-0DFB57F83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2FA6-ABEB-4020-9182-69ED9AD8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3E16-C509-41D7-95EE-74C960B64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634C-E96B-4D47-BB2C-4D820AE8D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1A96-F231-400E-AE1F-70A1DB8D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483B-C40F-40A4-9F04-6D83B2D0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0FD8-D664-4315-BB4F-F51FC3A8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8B7C-C81C-4E87-8F23-A5700D8D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F14C-4874-4B2B-B60B-5541AD21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8B21-ABC1-429B-8B3A-CB333F70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E15D-A800-46BC-9EEF-591A6CFC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25E5-0BBB-45F1-89DF-59849B7B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D9FA-DA30-4733-9319-1DB04890A5AF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榮耀羔羊〈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2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〉   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Glorious K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榮耀羔羊〈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2/2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〉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Glorious 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8T23:14:22Z</dcterms:created>
  <dc:creator> </dc:creator>
  <dc:description/>
  <dc:language>en-US</dc:language>
  <cp:lastModifiedBy> </cp:lastModifiedBy>
  <dcterms:modified xsi:type="dcterms:W3CDTF">2004-06-08T23:14:37Z</dcterms:modified>
  <cp:revision>1</cp:revision>
  <dc:subject/>
  <dc:title>榮耀羔羊〈1/2 〉    Glorious King </dc:title>
</cp:coreProperties>
</file>