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00819-F8CA-46EA-90F9-B0141971A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7DBDE-1BCB-4F3A-BFE0-BDA38AE00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1644D-0866-4BDA-8624-8DF138223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4E047-073F-4E63-8B24-454A96420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EC8DB-AB83-4E85-8FD5-1AC9E6902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7A272-1F4D-45D7-B5FB-B8A123868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A599B-BA5C-4D1C-8F8E-7CCA7E18F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3CFAD-722F-45FA-A8AE-94348A324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B94FF-3DD7-47D4-837D-150840CAA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77F9C-3D94-49EE-8402-DEBE7DAC5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4EB56-F0F5-4BC4-BD5F-697E3F982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12692-0D1D-4EEA-9476-9BD7B2AF3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790ED-9C28-4D66-ACFC-DB9205BEA9C1}" type="slidenum">
              <a:rPr b="0" lang="zh-TW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賜我自由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(1/2)</a:t>
            </a:r>
            <a:br>
              <a:rPr sz="4400"/>
            </a:b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[Grant Me Freedom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3200" spc="-1" strike="noStrike">
              <a:solidFill>
                <a:srgbClr val="000000"/>
              </a:solidFill>
              <a:latin typeface="Arial"/>
              <a:ea typeface="新細明體"/>
            </a:endParaRPr>
          </a:p>
        </p:txBody>
      </p:sp>
      <p:sp>
        <p:nvSpPr>
          <p:cNvPr id="43" name=""/>
          <p:cNvSpPr/>
          <p:nvPr/>
        </p:nvSpPr>
        <p:spPr>
          <a:xfrm>
            <a:off x="655200" y="6267600"/>
            <a:ext cx="1143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  <a:ea typeface="全真粗黑體"/>
              </a:rPr>
              <a:t>彩虹下的約定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賜我自由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(2/2)</a:t>
            </a:r>
            <a:br>
              <a:rPr sz="4400"/>
            </a:b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[Grant Me Freedom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3200" spc="-1" strike="noStrike">
              <a:solidFill>
                <a:srgbClr val="000000"/>
              </a:solidFill>
              <a:latin typeface="Arial"/>
              <a:ea typeface="新細明體"/>
            </a:endParaRPr>
          </a:p>
        </p:txBody>
      </p:sp>
      <p:sp>
        <p:nvSpPr>
          <p:cNvPr id="47" name=""/>
          <p:cNvSpPr/>
          <p:nvPr/>
        </p:nvSpPr>
        <p:spPr>
          <a:xfrm>
            <a:off x="655200" y="6267600"/>
            <a:ext cx="1143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  <a:ea typeface="全真粗黑體"/>
              </a:rPr>
              <a:t>彩虹下的約定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20:50:38Z</dcterms:created>
  <dc:creator> </dc:creator>
  <dc:description/>
  <dc:language>en-US</dc:language>
  <cp:lastModifiedBy> </cp:lastModifiedBy>
  <dcterms:modified xsi:type="dcterms:W3CDTF">2004-06-16T20:50:49Z</dcterms:modified>
  <cp:revision>1</cp:revision>
  <dc:subject/>
  <dc:title>賜我自由 (1/2) [Grant Me Freedom]</dc:title>
</cp:coreProperties>
</file>