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789-2DD4-421B-AC32-17918B9C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338-473D-4DFE-B797-1CCD5F92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F61-9A2F-437F-ACE6-88B83C43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08F-BA0B-493F-9B25-AA3E99B9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F2D-7A30-4BBB-B2A2-C5BDE22A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43F-C122-4E4A-A493-9B79AAF6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0B4-2A25-47AA-8C99-61EF2ED2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5FB-7585-486F-8ACD-EB4CEF80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238-9DA2-4EBD-9D91-77C4C4AA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E296-7303-41FA-9F97-2B68BDB7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1F1-A66B-432E-A4FB-F1CE10E8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CB6-3593-48B5-AFDF-A767FE07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BFAE-E7A9-43C9-92E2-124DA17B7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在主愛中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God’s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在主愛中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God’s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在主愛中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God’s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在主愛中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God’s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9:22:45Z</dcterms:created>
  <dc:creator>Registered user</dc:creator>
  <dc:description/>
  <dc:language>en-US</dc:language>
  <cp:lastModifiedBy>Registered user</cp:lastModifiedBy>
  <dcterms:modified xsi:type="dcterms:W3CDTF">2004-07-09T19:22:50Z</dcterms:modified>
  <cp:revision>1</cp:revision>
  <dc:subject/>
  <dc:title>在主愛中 &lt;1/4&gt; In God’s Love</dc:title>
</cp:coreProperties>
</file>