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0C9-7A1D-48CF-8754-8A4D7E5D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42DB-4F4A-4307-B255-D587C62C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C48-EAFA-4F3F-B09D-87B6EBD4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9B66-10C9-4998-AD79-04F852B4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F0A-9289-4F8D-B698-AE5947AA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99C1-DA60-46B4-A6C6-D54632ED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E5D-3013-48B7-93CC-A1D545E3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C65-E421-45E8-A5E7-8A5C62A4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2BA3-F30A-4F04-87B3-84967A32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6EA-887A-4E37-A840-8A12EF2B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2997-A602-461A-8768-5B24F942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DFD-3501-4D32-9766-8F63221A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2FBD-FB59-48C4-A009-1CED5BAA9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01:51:20Z</dcterms:created>
  <dc:creator>SOP</dc:creator>
  <dc:description/>
  <dc:language>en-US</dc:language>
  <cp:lastModifiedBy>SOP</cp:lastModifiedBy>
  <dcterms:modified xsi:type="dcterms:W3CDTF">2004-02-10T01:51:29Z</dcterms:modified>
  <cp:revision>1</cp:revision>
  <dc:subject/>
  <dc:title>Slide 1</dc:title>
</cp:coreProperties>
</file>