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A317-7D8E-46CE-888E-0D4634E0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516A-9C00-4B0D-A7B8-EA5B44FD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1D7-6032-4771-A3F7-AA1D9C94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E638-C6F7-4CD5-8B81-E93F4880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7091-2FF9-4DE9-8448-4B933905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EB19-53B8-4D42-A6A5-F9C3585D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6AAF-0369-457A-96D8-F32F4F04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38A0-B421-4307-AE94-4E71256A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FA18-0783-4A42-AF9A-C536D4E4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974-9E49-4654-9B7A-3E01FE5B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413-5D69-47B8-A962-6D9E76CF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C2D0-0E10-4E66-9A58-83CE6F46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6105-6649-41FF-B80D-E2F7E3287A0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豐盛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1/3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to His Abunda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豐盛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2/3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to His Abun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豐盛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3/3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to His Abun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23:15:27Z</dcterms:created>
  <dc:creator> </dc:creator>
  <dc:description/>
  <dc:language>en-US</dc:language>
  <cp:lastModifiedBy> </cp:lastModifiedBy>
  <dcterms:modified xsi:type="dcterms:W3CDTF">2004-06-08T23:15:41Z</dcterms:modified>
  <cp:revision>1</cp:revision>
  <dc:subject/>
  <dc:title>進入豐盛〈1/3 〉 Into His Abundance </dc:title>
</cp:coreProperties>
</file>