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9C39-DFD3-45C7-AAE2-9E7674398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92B5-F8CD-4EDA-AD25-271C9DBC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6A47-AD2C-4D38-BBA4-4F0CD414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F799-DA7B-418B-9E02-75F6F1677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8D48-CD22-41C0-AB7A-066EC676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ED0C-DAFB-4B89-9E02-1E583731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4BF9-C567-4E35-9AF3-0F1C565D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90BD-1A2E-48E1-944D-636A5A33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4758-BDAF-40A3-8C3E-81911A76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A690-CEFA-4099-8007-677D8D79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4C33-A4D3-4A9C-9904-2B70616D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9DED-D395-4C45-B8CE-837003E5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2A80-FCE9-4467-82B6-FE244C9F01E2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彼此相愛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1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Love One Ano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7440" y="62928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新的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彼此相愛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2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Love One Ano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7440" y="62928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新的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彼此相愛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3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Love One Ano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7440" y="62928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新的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彼此相愛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4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Love One Ano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7440" y="62928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新的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01:00:29Z</dcterms:created>
  <dc:creator> </dc:creator>
  <dc:description/>
  <dc:language>en-US</dc:language>
  <cp:lastModifiedBy> </cp:lastModifiedBy>
  <dcterms:modified xsi:type="dcterms:W3CDTF">2004-06-17T01:00:34Z</dcterms:modified>
  <cp:revision>1</cp:revision>
  <dc:subject/>
  <dc:title>彼此相愛 &lt;1/4&gt; Love One Another</dc:title>
</cp:coreProperties>
</file>