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B3F5-A5D0-4965-A9A9-195F215BB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8C4-2964-4EF6-BF5E-C398F241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567B-90E9-414F-982F-6EFFDD26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386-2A64-4864-A028-7DCF90F9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3CB-1857-4E95-8E26-A267ADD3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67E6-8E4D-4C19-BC7B-6478E3B0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73B3-C167-4C84-A8FF-B004FAB2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ADD-08F5-4E27-91B4-3E680621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6FB-320B-4021-A329-22FBA7D6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C0B-4B13-403B-8EF8-3FAB6BAC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F36-E678-4101-8660-EC8C455A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8691-88B3-4F11-88AC-DFED62A5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F743-EAC8-4B5C-A8BD-ACB33E206FB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讓愛走動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1/2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Love Overf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讓愛走動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2/2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Love Overf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1:47:35Z</dcterms:created>
  <dc:creator> </dc:creator>
  <dc:description/>
  <dc:language>en-US</dc:language>
  <cp:lastModifiedBy> </cp:lastModifiedBy>
  <dcterms:modified xsi:type="dcterms:W3CDTF">2004-06-16T21:47:46Z</dcterms:modified>
  <cp:revision>1</cp:revision>
  <dc:subject/>
  <dc:title>讓愛走動 &lt;1/2&gt; Love Overflows</dc:title>
</cp:coreProperties>
</file>