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109-B703-4714-ABB3-3DDFA4D2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CA4-B800-4656-83A7-CE1E527B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82B-CD26-4C1C-B342-3FC424B7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B17D-19CB-461C-BAF3-056353BED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B502-5559-455A-BF8B-EC77D6A5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68E5-49DC-4828-856C-B929EEE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4E7-81AB-411F-8F87-8915270D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6BE0-3DF1-47CC-9926-FF38CE3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9C5-CD8D-4EBB-84F3-AA5175715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9B9-2B38-4E94-92B6-89D27AF5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9EB-BB1D-4049-943F-8BD29CDF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7EB9-5D32-49BE-A0EC-FCEC8D6A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5C10-51E5-46D0-8D79-18AF35D9551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常常喜樂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Rejoice Alwa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4:58Z</dcterms:created>
  <dc:creator> </dc:creator>
  <dc:description/>
  <dc:language>en-US</dc:language>
  <cp:lastModifiedBy> </cp:lastModifiedBy>
  <dcterms:modified xsi:type="dcterms:W3CDTF">2004-06-17T00:25:03Z</dcterms:modified>
  <cp:revision>1</cp:revision>
  <dc:subject/>
  <dc:title>常常喜樂 &lt;1/4&gt; Rejoice Always</dc:title>
</cp:coreProperties>
</file>