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D62-E2BC-4001-9ED5-2CF72102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F52-1848-4122-9E1B-8582C6C9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D59-A78B-4E83-903C-B4FD82CB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A5C-158B-4950-B9BF-BD451CBC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C91-2845-45A6-B67F-494D21CC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27C-5B85-4DB1-82AD-B03A68DA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851-BBE7-4D22-BED9-BFF81B29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B35-5337-4838-B928-A4B2B45C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EA2-7B44-4A58-8685-D1FE5EBD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9F8-E4AF-4C2B-BA1A-BFBA7B78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923-2B31-4C66-8C5D-36F8F684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021-19BD-4DC6-ADCF-02D5F46B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CDE7-4334-4F0A-8058-9452BAC3C33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復興聖潔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vive Ho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復興聖潔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vive Ho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復興聖潔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vive Ho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復興聖潔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vive Ho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3:26:09Z</dcterms:created>
  <dc:creator> </dc:creator>
  <dc:description/>
  <dc:language>en-US</dc:language>
  <cp:lastModifiedBy> </cp:lastModifiedBy>
  <dcterms:modified xsi:type="dcterms:W3CDTF">2004-06-16T23:26:40Z</dcterms:modified>
  <cp:revision>1</cp:revision>
  <dc:subject/>
  <dc:title>復興聖潔 &lt;1/4&gt; Revive Holiness</dc:title>
</cp:coreProperties>
</file>