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4BB-8547-4455-A6C4-A4B1D77E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AF9-B22E-43FB-B01A-DA8E3D2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0B1-70FE-480D-A05A-289A198B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C81-C58C-4335-B3D7-ACDFF22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D43-1F23-4E44-B277-1F7EDF64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FC5-907C-4C83-A1B7-7A471155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CA4-3710-4302-8F0E-D122785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14F-0678-480A-ADB2-DABFEF7E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9ED-BBD7-42D4-B0D0-9B873A9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A12-1A67-412D-B14F-34A82AB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3A0-DB62-4AD1-83D6-524464A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31C-2F55-4104-BFF1-8F878AF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577-ED8B-47BE-9026-21ABB4D2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2:15Z</dcterms:created>
  <dc:creator>SOP</dc:creator>
  <dc:description/>
  <dc:language>en-US</dc:language>
  <cp:lastModifiedBy>SOP</cp:lastModifiedBy>
  <dcterms:modified xsi:type="dcterms:W3CDTF">2004-02-10T01:52:30Z</dcterms:modified>
  <cp:revision>1</cp:revision>
  <dc:subject/>
  <dc:title>Slide 1</dc:title>
</cp:coreProperties>
</file>