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A4D-A021-4C84-878B-7921B6F8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E8D-CA13-4184-8575-7F91D553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84F-5C7A-4BA1-88FC-4CE96E5A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7FE-845E-40C7-BCC5-A1E47D63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A8A-41AF-45E8-9C35-CEE8CCE1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819A-9FF3-41F7-8CFC-15FCFE2A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676-E582-4982-9A8E-387927CF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006-4F77-459C-AD75-5B5F4948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7DA-0700-4408-BD5D-0D5B19FA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481-185A-46F5-88AB-CC550567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97A-26B8-412D-B127-CEFAC6D2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2A7-3EEF-459D-B532-E09DAF9A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DA6E-15EE-459C-AC3F-C82BFDAD885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犧牲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Sacrificial Lov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犧牲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Sacrificial Lov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犧牲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Sacrificial Lov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04:24Z</dcterms:created>
  <dc:creator> </dc:creator>
  <dc:description/>
  <dc:language>en-US</dc:language>
  <cp:lastModifiedBy> </cp:lastModifiedBy>
  <dcterms:modified xsi:type="dcterms:W3CDTF">2004-06-16T01:04:32Z</dcterms:modified>
  <cp:revision>1</cp:revision>
  <dc:subject/>
  <dc:title>犧牲的愛 (1/3)  [The Sacrificial Love]</dc:title>
</cp:coreProperties>
</file>