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C5A-0B8F-4A47-B253-44B1D5F5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953-D432-492B-853F-2D898F8A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92C5-EB3C-4413-BD00-60531889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E4F-EAFF-4743-8F57-A1298611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BCC-37A3-496A-80D4-B3A1F1BC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E4A-D4D6-4B5D-BD98-C984F205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85C-264C-4B4F-A647-8EA83375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4B92-3196-4A8A-B1DC-0865D40D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7A3-BE16-4437-ACB7-2539630D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F8D-C590-4B12-A6C0-49E78D03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87C-289B-4004-ADFD-14191F33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1CA-FC13-48C0-8E90-337730E7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9675-9E81-4E4F-BAAE-989A26DAFFB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23:39:30Z</dcterms:created>
  <dc:creator> </dc:creator>
  <dc:description/>
  <dc:language>en-US</dc:language>
  <cp:lastModifiedBy> </cp:lastModifiedBy>
  <dcterms:modified xsi:type="dcterms:W3CDTF">2004-06-15T23:39:39Z</dcterms:modified>
  <cp:revision>1</cp:revision>
  <dc:subject/>
  <dc:title>Slide 1</dc:title>
</cp:coreProperties>
</file>