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1A3-D641-41A8-9418-8F31C907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0C0-D391-446A-81F8-E6CDBF7E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9A5-B515-4CA5-8BFB-706292CA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5D5-2377-40BF-A344-4C71E354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22D-2B41-42F8-8D2B-1784CA69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745-3E54-4A5B-AC4C-953EA5D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0F3-B0F1-4D37-849D-BCC6AB7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F8A-4E4E-4B9F-BBA0-895F8EDD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BE1-F2FC-44D0-A243-61B4CC3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1B8-1CF2-4A9D-B98A-DF6D7E0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10E-5D72-40B2-8C54-47ADE79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835-B48F-4737-9567-0DE6FB6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FA0A-1796-4A17-9D62-47AF0C1D6C0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馨香晚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Evening Sacrific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06Z</dcterms:created>
  <dc:creator> </dc:creator>
  <dc:description/>
  <dc:language>en-US</dc:language>
  <cp:lastModifiedBy> </cp:lastModifiedBy>
  <dcterms:modified xsi:type="dcterms:W3CDTF">2004-06-16T21:07:20Z</dcterms:modified>
  <cp:revision>1</cp:revision>
  <dc:subject/>
  <dc:title>馨香晚祭 (1/3) [The Evening Sacrifice]</dc:title>
</cp:coreProperties>
</file>