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B07D-3EAB-4652-A20F-61123AD41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AAA5-1C44-4212-B338-29DD13481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D1F4-E724-4E8B-A460-D162E7A93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FBED-9781-4163-B2FD-4A8ECDD17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26EF-E25E-473C-98EF-35BA50B65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5480-BB4A-4E63-8CDF-4D8AD0E60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A556-C444-4984-8CE0-61A6D1CE7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7247-A7A9-4DC4-8295-5CDEA1F7B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642C-66B7-4244-9482-7A2661C80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9D21-C688-47BC-B782-745A29BD6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537F-D988-4CA3-BF10-401A553D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3113-BCD1-44A0-A9FE-AA20DD55C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5EAFC-AE20-4214-B42C-7927AB293AED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與你有約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(1/3)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[The Promise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43" name=""/>
          <p:cNvSpPr/>
          <p:nvPr/>
        </p:nvSpPr>
        <p:spPr>
          <a:xfrm>
            <a:off x="655200" y="6267600"/>
            <a:ext cx="114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彩虹下的約定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與你有約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(2/3)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[The Promise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47" name=""/>
          <p:cNvSpPr/>
          <p:nvPr/>
        </p:nvSpPr>
        <p:spPr>
          <a:xfrm>
            <a:off x="655200" y="6267600"/>
            <a:ext cx="114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彩虹下的約定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與你有約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(3/3)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[The Promise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51" name=""/>
          <p:cNvSpPr/>
          <p:nvPr/>
        </p:nvSpPr>
        <p:spPr>
          <a:xfrm>
            <a:off x="655200" y="6267600"/>
            <a:ext cx="114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彩虹下的約定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20:50:03Z</dcterms:created>
  <dc:creator> </dc:creator>
  <dc:description/>
  <dc:language>en-US</dc:language>
  <cp:lastModifiedBy> </cp:lastModifiedBy>
  <dcterms:modified xsi:type="dcterms:W3CDTF">2004-06-16T20:50:27Z</dcterms:modified>
  <cp:revision>1</cp:revision>
  <dc:subject/>
  <dc:title>與你有約 (1/3) [The Promise]</dc:title>
</cp:coreProperties>
</file>