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63E-CB87-493B-9884-71CA64C1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E1F-903B-49A5-8334-CE5E49E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C61-26FA-47E6-8EDE-6506850E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76D-B2B4-42CB-9FD0-52F5189F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A75-2D6E-4CCB-B0C7-856A607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E95-5FA7-45CA-BB8D-13DD012B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DAA-C359-4761-883E-E99D5AE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9BC-1D9D-4660-A216-7320F52B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5C1-0242-4D21-BDC3-46C5C43A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5D-D19D-4D2C-8735-2844DC0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857-4F6F-4A68-A37E-39706C6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ACD-6821-4B21-8FC4-0658DCF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87FD-EAEC-40D2-AF06-9E206F3E597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2:19Z</dcterms:created>
  <dc:creator> </dc:creator>
  <dc:description/>
  <dc:language>en-US</dc:language>
  <cp:lastModifiedBy> </cp:lastModifiedBy>
  <dcterms:modified xsi:type="dcterms:W3CDTF">2004-06-16T21:52:33Z</dcterms:modified>
  <cp:revision>1</cp:revision>
  <dc:subject/>
  <dc:title>仰望恩典 &lt;1/4&gt; Upon Your Grace</dc:title>
</cp:coreProperties>
</file>