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87F3-BA45-48F2-8F2F-15736D65F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9B02-916E-490E-989B-B1BB0206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80B7-DADB-4862-B4DD-48057353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602A-90AB-47B3-8696-3F9D6F6C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66AB-4F8D-474F-BA7F-34219731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BEF5-5706-4B6F-B7B5-480CB3DE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CBA-6541-4483-B897-056F041C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B284-23BE-44FF-9D94-3F7EEF95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0F7-DA12-4854-8109-9C258EAA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BD53-3C0D-433D-8DFE-542E4632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E19-F780-47CB-BD4F-271292C7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8803-0599-43E7-A1BC-E07E65FD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CA54-21B4-44A1-8822-EA1101F9C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1T23:55:51Z</dcterms:created>
  <dc:creator>SOP</dc:creator>
  <dc:description/>
  <dc:language>en-US</dc:language>
  <cp:lastModifiedBy>SOP</cp:lastModifiedBy>
  <dcterms:modified xsi:type="dcterms:W3CDTF">2004-03-31T23:56:02Z</dcterms:modified>
  <cp:revision>1</cp:revision>
  <dc:subject/>
  <dc:title>Slide 1</dc:title>
</cp:coreProperties>
</file>