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E9B33-C317-42C2-B9EE-FE6440A9B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FB7FB-084F-4F10-95C1-7F242D60C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C67-0763-49B7-BA3C-2B9BCA0C7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425F8-579C-4AC2-9A64-3452B93FD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5A06C-8BE9-4C6F-B1F9-F07AD15EB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3E87-4102-4096-A722-9B2A54D0B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EBA1C-D3E2-46AF-93D7-D9F89DFC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CE69-3148-427D-80A3-15296894D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ED300-02C3-4CA1-BBC9-68935E5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C54C8-EF91-4582-B353-3B3A6D5D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EEF6-2990-40EC-A24E-BF300F58A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D9E9-BD78-4CC3-AC61-73E0B9732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4007-F71C-4FBC-8244-E193234D316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願你國降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1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Your Kingdom 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願你國降臨 </a:t>
            </a: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&lt;2/2&gt;</a:t>
            </a:r>
            <a:br>
              <a:rPr sz="4000"/>
            </a:b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Your Kingdom Co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0800" y="6292800"/>
            <a:ext cx="112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  <a:ea typeface="全真粗黑體"/>
              </a:rPr>
              <a:t>全能的創造主</a:t>
            </a:r>
            <a:r>
              <a:rPr b="0" lang="zh-TW" sz="16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7T00:23:38Z</dcterms:created>
  <dc:creator> </dc:creator>
  <dc:description/>
  <dc:language>en-US</dc:language>
  <cp:lastModifiedBy> </cp:lastModifiedBy>
  <dcterms:modified xsi:type="dcterms:W3CDTF">2004-06-17T00:23:52Z</dcterms:modified>
  <cp:revision>1</cp:revision>
  <dc:subject/>
  <dc:title>願你國降臨 &lt;1/2&gt; Your Kingdom Come</dc:title>
</cp:coreProperties>
</file>