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376F-F714-43BF-8599-21C775D0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BE34-811B-4862-AB63-D727F079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B0CE-4479-4D3B-B12C-8A3044F6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42D-D066-4D54-8627-8C4F64BE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E29E-5B5A-4262-9746-55B5BE4D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A63-6101-4DB2-8BAD-2FFD17EB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6E4-39E0-4F56-973B-994AE4E9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B70-7AA8-4167-A6EE-E948AA55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320-CE14-4AEA-936F-663DA196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4EF2-2FCB-463E-B8D8-8A2436A7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DAA-4DE6-4BA8-BBB6-1967EDAA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FFEE-D9C7-4646-9A52-81D90192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A738-478E-46BA-93A1-140C57605D9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豐盛的人生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bundant Lif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豐盛的人生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bundant Lif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32:27Z</dcterms:created>
  <dc:creator> </dc:creator>
  <dc:description/>
  <dc:language>en-US</dc:language>
  <cp:lastModifiedBy> </cp:lastModifiedBy>
  <dcterms:modified xsi:type="dcterms:W3CDTF">2004-06-16T01:32:35Z</dcterms:modified>
  <cp:revision>1</cp:revision>
  <dc:subject/>
  <dc:title>豐盛的人生 (1/2)  [Abundant Life]</dc:title>
</cp:coreProperties>
</file>