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5E6-95F7-4261-8ECF-61F08478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2AE-1BAE-4DEF-8A93-FB4F8FB0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BA5-5F79-4274-B556-E3700471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84D-7C73-45AD-A089-1188AB50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5C1-56BA-4A32-BBEF-C59A1214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4EE-06E1-42D0-A2AE-A3CC32D8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4C95-233E-4066-96F4-228CE5AE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886-D9F0-40B1-ABF4-CFCA6CCF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1EC-A08B-4F69-8E6F-7F6EB2A6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B47A-6B5A-48E8-B32C-48B64D6C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0EA-1CD7-42F9-B3E3-27A9174C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CF8-CC7A-409C-A393-B062E5DE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DE96-A312-4ED6-99DA-08C3392BC22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親愛的聖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1/2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Come Holy Spir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親愛的聖靈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ome Holy Spi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3:19:58Z</dcterms:created>
  <dc:creator> </dc:creator>
  <dc:description/>
  <dc:language>en-US</dc:language>
  <cp:lastModifiedBy> </cp:lastModifiedBy>
  <dcterms:modified xsi:type="dcterms:W3CDTF">2004-06-08T23:20:07Z</dcterms:modified>
  <cp:revision>1</cp:revision>
  <dc:subject/>
  <dc:title>親愛的聖靈〈1/2 〉 Come Holy Spirit</dc:title>
</cp:coreProperties>
</file>