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918-0BE9-4F1F-BF70-41DDD3D6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A67-C3D3-478B-9DBB-0F50E230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6A5-CD58-41A0-81D9-FE04ED18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C77-7AEF-41B5-BA06-D3A2EBC9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94C-2086-41E1-8133-A596F647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891-CB30-40F5-A429-4B8D2AED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808-CFAE-425C-9AE0-8E526C34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79E-C1AE-4C51-961F-9E90C494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727-9CCC-4E55-A3E2-77D0A50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2FE-E20E-4878-90DE-A80F703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4A8-E59E-4A1D-A978-E1EF854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6AE-9DFB-4314-8069-8C755C1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FEE2-A1F0-4EF3-B7C7-1E035FBCD5C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更深渴慕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Deeper Lo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更深渴慕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Deeper Lo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6:47Z</dcterms:created>
  <dc:creator> </dc:creator>
  <dc:description/>
  <dc:language>en-US</dc:language>
  <cp:lastModifiedBy> </cp:lastModifiedBy>
  <dcterms:modified xsi:type="dcterms:W3CDTF">2004-06-16T23:26:52Z</dcterms:modified>
  <cp:revision>1</cp:revision>
  <dc:subject/>
  <dc:title>更深渴慕你 &lt;1/2&gt; Deeper Longing</dc:title>
</cp:coreProperties>
</file>