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985-8687-4218-B003-4167437B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B19-B6A4-4E68-9E1C-35385AD7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5E6-3BA1-40ED-91A9-05B353BB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F088-1C11-4814-8425-2984032D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81BE-EED3-4FCD-8059-E138BCB2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A5AD-2A50-4065-BE00-1A004D34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6A4A-1143-40B9-B130-212694C6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F1C7-29AC-468A-9201-1C477033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ABE-57BE-454E-A87B-503FE626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77E-9B33-4195-BC80-1B9CE630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342-98AB-409B-9B6F-8A22BF13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2A10-1BE6-4C68-91B6-7074BD1C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925B-E8FE-4675-BDBB-CCD0880849F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天父的孩子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Father’s Beloved Child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天父的孩子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Father’s Beloved Child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1:07:31Z</dcterms:created>
  <dc:creator> </dc:creator>
  <dc:description/>
  <dc:language>en-US</dc:language>
  <cp:lastModifiedBy> </cp:lastModifiedBy>
  <dcterms:modified xsi:type="dcterms:W3CDTF">2004-06-16T21:07:38Z</dcterms:modified>
  <cp:revision>1</cp:revision>
  <dc:subject/>
  <dc:title>天父的孩子 (1/2) [Father’s Beloved Child]</dc:title>
</cp:coreProperties>
</file>