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C0E-6298-499F-ABC0-A4D864F6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253-306B-4D99-8DA6-E1525648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D83-F5D7-467A-8E98-70F73094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FEF-1DC8-4464-888C-D67A765E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853-529D-4742-9CCA-4346F05A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8D1-984F-42B9-9650-23C147E4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489-BD7A-41B5-92FB-198E9D10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333-5CC7-4B9B-BD72-840B5B0F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8C6-B6EB-45F7-AE6E-9C6166C0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55C-766B-4F9C-A821-141E7C5F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789-D1B7-4D8F-B492-98124D94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209-59AF-409A-AFB1-35A48F63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2F9F-D5E2-446E-8262-4095A56132D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8:49Z</dcterms:created>
  <dc:creator> </dc:creator>
  <dc:description/>
  <dc:language>en-US</dc:language>
  <cp:lastModifiedBy> </cp:lastModifiedBy>
  <dcterms:modified xsi:type="dcterms:W3CDTF">2004-06-15T23:39:03Z</dcterms:modified>
  <cp:revision>1</cp:revision>
  <dc:subject/>
  <dc:title>Slide 1</dc:title>
</cp:coreProperties>
</file>