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99A-DBFE-48AA-845F-D61CA4E0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636-87B5-4B4A-8477-CEC01643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4D2-8ACA-4317-A269-A4702D29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B12-2C50-4F7E-897B-56592239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8C12-FC23-46C8-B9AC-FBA75EE3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922-F6EF-43F7-A6D3-8A18784D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A5D-C43D-44C7-A9D2-4DDFFE7A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3BE-C5A6-4F7A-8CDB-EE3B38BB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413-1F89-4984-8930-A38716EF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C2A-54E2-4A4E-9E4A-D48E44B8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EAF-3617-461B-B012-85D46F78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281-CC08-4B71-A7FF-3EA5243D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0C01-F1C6-4090-9615-A30372459C5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注目看耶穌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Look Upon Jesu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注目看耶穌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2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Look Upon Jesu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32:10Z</dcterms:created>
  <dc:creator> </dc:creator>
  <dc:description/>
  <dc:language>en-US</dc:language>
  <cp:lastModifiedBy> </cp:lastModifiedBy>
  <dcterms:modified xsi:type="dcterms:W3CDTF">2004-06-16T01:32:18Z</dcterms:modified>
  <cp:revision>1</cp:revision>
  <dc:subject/>
  <dc:title>注目看耶穌 (1/2)  [Look Upon Jesus]</dc:title>
</cp:coreProperties>
</file>