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2AC-74F5-4A5E-815D-522562AA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773-6054-4F31-9956-A4436354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E36-05A9-4C79-96E7-AC6654E2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3EC-AD92-4CC0-8F07-1E3A94A7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860-48A6-4CAB-B2C9-D1FEE8B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CEE-334C-4185-B487-21331E8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86B-60FC-4E0D-9A95-ABF3E09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A98-BD01-48C3-A337-E06B4C9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195-924C-429B-8D85-4531083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071-C512-4402-8D68-117F706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799-2E3B-42D8-BA7B-493D833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928-FED0-4970-B92C-DF36504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8BD-3F9B-47C8-9D1B-AEE61D081E2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28Z</dcterms:created>
  <dc:creator> </dc:creator>
  <dc:description/>
  <dc:language>en-US</dc:language>
  <cp:lastModifiedBy> </cp:lastModifiedBy>
  <dcterms:modified xsi:type="dcterms:W3CDTF">2004-06-16T23:27:43Z</dcterms:modified>
  <cp:revision>1</cp:revision>
  <dc:subject/>
  <dc:title>耶穌，我的耶穌 &lt;1/2&gt; Jesus, My Jesus</dc:title>
</cp:coreProperties>
</file>