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08F-6E36-465A-824B-BC254780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105-0FC5-48F3-8595-0796EB48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79E-AA8B-4F27-8CE5-741E2A9A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B4A-2C85-47EC-BB64-88DC8144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9F2-145E-48FA-B6F9-4E48D4EB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94D-7149-4724-94B8-603DB50D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4F2-4003-47C8-BF19-824F1DD6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6E8-7D98-4F4B-9550-85FE6404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9BB-2F15-49BC-ACBD-88A5C9C0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CFD-497D-4F2C-A41C-EE7276BB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CA0-B66D-4368-A351-DD53BF0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AE4-5F1C-4F1D-8F4A-885C4D3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0911-7D76-4F8B-8C38-331331FAFB2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8:02Z</dcterms:created>
  <dc:creator> </dc:creator>
  <dc:description/>
  <dc:language>en-US</dc:language>
  <cp:lastModifiedBy> </cp:lastModifiedBy>
  <dcterms:modified xsi:type="dcterms:W3CDTF">2004-06-15T23:38:20Z</dcterms:modified>
  <cp:revision>1</cp:revision>
  <dc:subject/>
  <dc:title>Slide 1</dc:title>
</cp:coreProperties>
</file>