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C93-5BF0-4658-BD71-40C4E8C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E92-8C98-4B5D-B4BB-FCCB191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C4C-E957-482B-94D0-6F80E229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E7E-3CBB-4C32-BD86-1C9B913B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E63-3539-43B5-9A27-8184FB4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BCF-CAD6-4C52-B519-7A9321D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AA8-7F5F-4A10-99F0-FB7C0738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B0A-0F47-4E2A-A145-CC920471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65-BE73-4C6E-BD24-4EAE150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B24-18EE-4707-8B82-8DF6F41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E27-7EA4-43EC-BEFE-9B88130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221-BEC9-4D4A-AF50-F97EEAE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66C-84AF-40B8-82E4-34B1D36A746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1:24Z</dcterms:created>
  <dc:creator> </dc:creator>
  <dc:description/>
  <dc:language>en-US</dc:language>
  <cp:lastModifiedBy> </cp:lastModifiedBy>
  <dcterms:modified xsi:type="dcterms:W3CDTF">2004-06-17T00:21:47Z</dcterms:modified>
  <cp:revision>1</cp:revision>
  <dc:subject/>
  <dc:title>永活全能真神 &lt;1/3&gt; Almighty Living God</dc:title>
</cp:coreProperties>
</file>