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F5C-6B51-4AFB-9342-ADC19F49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704-82C6-4CC7-A4F4-1D605AF8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0F6C-0C65-4612-B044-9D30B9D7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111-2C3D-449D-AE95-8E546771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943-727A-4E40-9B4E-CF7CE070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EA69-0FCE-4866-A027-C3990FA9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B90-669B-4D91-9C2C-C3C12061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1F7-F424-4164-AB61-6513AC87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FEF-9F14-4BC8-B21D-26EFFA7D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E88-8FB7-4D5E-906D-B149F342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4CDA-3F6B-4CC8-9939-E0529D73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33A-83F1-4055-8156-0ABB7CAA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9E53-D096-46BF-B024-246E6BC840C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專心仰望耶穌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Focus on J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專心仰望耶穌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Focus on J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專心仰望耶穌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Focus on J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專心仰望耶穌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Focus on J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25:11Z</dcterms:created>
  <dc:creator> </dc:creator>
  <dc:description/>
  <dc:language>en-US</dc:language>
  <cp:lastModifiedBy> </cp:lastModifiedBy>
  <dcterms:modified xsi:type="dcterms:W3CDTF">2004-06-17T00:25:26Z</dcterms:modified>
  <cp:revision>1</cp:revision>
  <dc:subject/>
  <dc:title>專心仰望耶穌 &lt;1/4&gt; Focus on Jesus</dc:title>
</cp:coreProperties>
</file>