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044-8DE9-4AD3-ACA8-7EC4E586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654-F7D8-4C82-9F92-19FF076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5CC-1DA2-4A0A-A05B-C912B850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0DB-4A9B-4815-84B7-2D7D0EB9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408-6D2F-493C-9125-DFE795B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E2E-0406-444C-B8AA-62D4FCE0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B71-4961-4C47-9135-E251201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C5E-76EB-4616-B506-A28082BF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F18-6748-4426-A2D8-97A3C45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316-4E5F-41C7-9416-CBB6170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F9D-6121-405A-BAE9-9D0EA1B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D78-3EAA-41F5-9CEB-5C0F78C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5CB-7683-459B-9B1D-5854EF1B89C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50Z</dcterms:created>
  <dc:creator> </dc:creator>
  <dc:description/>
  <dc:language>en-US</dc:language>
  <cp:lastModifiedBy> </cp:lastModifiedBy>
  <dcterms:modified xsi:type="dcterms:W3CDTF">2004-06-16T23:28:00Z</dcterms:modified>
  <cp:revision>1</cp:revision>
  <dc:subject/>
  <dc:title>萬國禱告的殿 &lt;1/4&gt; House of Prayer</dc:title>
</cp:coreProperties>
</file>