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E4E-0E13-4A89-AD38-656F972A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FCA-0F02-4D01-ACA3-6727320C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43C-D6BD-4B3C-9E6B-49FC58C3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996-6D57-4A9B-8859-4EABC59A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1F6-6330-410A-AB25-7CB481B9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A14-F773-4F23-9DEE-02A3C056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6BF-7EFD-4E03-AD48-CD47F021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2C1-CED2-4B26-8C18-8AE890F0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3EA5-3D30-481F-A441-C1E0E922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2AC-7988-487A-81E0-69A12A8E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D12-F605-4A0D-82F7-3853BDAF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AD4-5608-49CA-A3BA-9CB2DD41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6C5B-7AB8-4095-BC67-8C85B1476BA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進入你的同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Your Pres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進入你的同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Your Pres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進入你的同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Your Pres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進入你的同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Your Pres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1:01:58Z</dcterms:created>
  <dc:creator> </dc:creator>
  <dc:description/>
  <dc:language>en-US</dc:language>
  <cp:lastModifiedBy> </cp:lastModifiedBy>
  <dcterms:modified xsi:type="dcterms:W3CDTF">2004-06-17T01:02:04Z</dcterms:modified>
  <cp:revision>1</cp:revision>
  <dc:subject/>
  <dc:title>進入你的同在 &lt;1/4&gt; Into Your Presence</dc:title>
</cp:coreProperties>
</file>