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2F35-888D-4BAD-B36A-CA889054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09E-896B-4896-9F8F-54917982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6AB-BEA2-4BED-8691-65F665B1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A1C-A395-4A21-BCFB-90D28567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F96-4FD7-43AF-98C1-E81E5FA3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A31C-BDF7-4B5F-ADE6-6CB10007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65E-F310-4ABA-AAB8-5102BDDF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02EA-CE74-45DE-B8F9-8CFBAEE4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95C-6486-451C-943C-9D5A56EB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3BD-5808-4889-AC50-02114C07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586-8580-4297-9430-37B18CF3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BFC2-2783-4F45-A127-FB4E3B42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8AD9-7A9E-425B-8018-26DCDC87AE8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平安的七月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Peaceful July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平安的七月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Peaceful July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平安的七月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Peaceful July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32:47Z</dcterms:created>
  <dc:creator> </dc:creator>
  <dc:description/>
  <dc:language>en-US</dc:language>
  <cp:lastModifiedBy> </cp:lastModifiedBy>
  <dcterms:modified xsi:type="dcterms:W3CDTF">2004-06-16T01:33:00Z</dcterms:modified>
  <cp:revision>1</cp:revision>
  <dc:subject/>
  <dc:title>平安的七月夜 (1/3)  [Peaceful July]</dc:title>
</cp:coreProperties>
</file>