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8D02-4410-4B6D-864B-D8859C68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CD7-1B9A-48AD-BB5B-1A63CC48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1397-EBF6-4207-87B9-4FD58349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993-5D5B-4189-A7A6-D8734484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238-52B3-4755-B836-7D62C7D5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206-D44C-4E88-8F21-9309F0E9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C79D-90C4-4F58-8D3B-DE204B3C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8E3-DCAE-4545-8BED-58390E18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6DC3-4873-4550-810B-CC29837B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3CF-B0BD-4A0A-BCDA-10673C55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F9B0-C3F9-43E5-B694-0E7F9738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DE0-3E76-4016-96AF-0788BB79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7F95-EC8A-407B-9CD4-5D73D08A201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主賜福如春雨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Rain of Blessing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主賜福如春雨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Rain of Blessing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主賜福如春雨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Rain of Blessing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05:36Z</dcterms:created>
  <dc:creator> </dc:creator>
  <dc:description/>
  <dc:language>en-US</dc:language>
  <cp:lastModifiedBy> </cp:lastModifiedBy>
  <dcterms:modified xsi:type="dcterms:W3CDTF">2004-06-16T01:05:43Z</dcterms:modified>
  <cp:revision>1</cp:revision>
  <dc:subject/>
  <dc:title>主賜福如春雨 (1/3) [Rain of Blessings]</dc:title>
</cp:coreProperties>
</file>