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C47-4EE0-493B-B563-E8E1CE15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912-A2F0-43D4-99E6-5F07546A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7E0-DE31-49AC-8FA6-C4A11F37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95D-1DD1-42C3-9C3F-FBA600A3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076-EF81-425A-9F39-B28E7828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C0B-C7A7-4C5C-B417-755051BE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592-95BE-47A0-9453-1CAF958C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F22-97F2-451A-BAFA-B66E12E2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D62-F4BE-418E-B5DD-2D1223D9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B27-1105-419C-A256-FEB4D697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75D-4A63-450D-97C4-40B0EDA2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830-84E9-41A4-9C23-A04A4D2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7E18-3C6C-4A9C-8A96-FD6E48A9305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5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0:56Z</dcterms:created>
  <dc:creator> </dc:creator>
  <dc:description/>
  <dc:language>en-US</dc:language>
  <cp:lastModifiedBy> </cp:lastModifiedBy>
  <dcterms:modified xsi:type="dcterms:W3CDTF">2004-06-17T00:21:13Z</dcterms:modified>
  <cp:revision>1</cp:revision>
  <dc:subject/>
  <dc:title>全能的創造主 &lt;1/5&gt; Wonderful Creator</dc:title>
</cp:coreProperties>
</file>