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6F5C-CA49-4D4C-BBC8-4E93C7FA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5306-2B7F-4E36-9CB0-D3D9B411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89A1-51F8-4719-A961-9423D458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252F-7411-4043-9531-1F07386A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FCE0-15C9-489E-B7FF-24344882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8D9E-151F-4F75-9112-00C1A57D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FA6B-9377-4FA2-8061-BEAC37CC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716D-7208-4131-AE0D-ED71C3C1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997C-FC63-4A7E-89A7-DCD53045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A208-D531-41F7-A705-CB74609B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6AC9-3477-49F4-9851-94780494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BD3C-1922-43F8-B6E3-DD4DE91D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1B86-8731-4928-905A-B3BDEA28CE47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耶和華祝福滿滿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2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Jehovah’s Blessings Abound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292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耶和華祝福滿滿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耶和華祝福滿滿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2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Jehovah’s Blessings Abound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6292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耶和華祝福滿滿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1:06:23Z</dcterms:created>
  <dc:creator> </dc:creator>
  <dc:description/>
  <dc:language>en-US</dc:language>
  <cp:lastModifiedBy> </cp:lastModifiedBy>
  <dcterms:modified xsi:type="dcterms:W3CDTF">2004-06-16T01:06:34Z</dcterms:modified>
  <cp:revision>1</cp:revision>
  <dc:subject/>
  <dc:title>耶和華祝福滿滿 (1/2) [Jehovah’s Blessings Abound]</dc:title>
</cp:coreProperties>
</file>