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E541-9B97-488D-8FC2-7B30C3FE0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1AA4-3B17-492C-AF9C-23CB21F63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8088-CF5B-47E9-A768-FAC96D241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BACD-C951-4A6A-B55D-FF2754B4A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8FEC-D64D-4B14-A287-5BDCB5660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677B-C7E6-4FAE-8462-92545B205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9511-D410-4756-8440-F8CEE2E43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23E8-F66D-4BE2-97F8-8282FCF70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DF4D-F894-4839-A48D-492CD3F7A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20CC-DE9A-4049-B0B7-7A867C87A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5421-0B76-4C46-9E0B-717EDF941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6EAB-34B4-46CE-84DF-92A402D5A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20B05-EDE0-4DEB-A4B6-4387A1515F17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的救贖者活著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〈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1/4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〉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My Redeemer L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的救贖者活著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〈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2/4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〉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My Redeemer L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的救贖者活著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〈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3/4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〉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My Redeemer L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的救贖者活著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〈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4/4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〉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My Redeemer L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8T23:21:40Z</dcterms:created>
  <dc:creator> </dc:creator>
  <dc:description/>
  <dc:language>en-US</dc:language>
  <cp:lastModifiedBy> </cp:lastModifiedBy>
  <dcterms:modified xsi:type="dcterms:W3CDTF">2004-06-08T23:22:00Z</dcterms:modified>
  <cp:revision>1</cp:revision>
  <dc:subject/>
  <dc:title>我的救贖者活著〈1/4 〉 My Redeemer Lives</dc:title>
</cp:coreProperties>
</file>