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D1F0-3E05-4EBF-9CDD-D2A743CC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6A8-DAD1-46A5-A605-64DF36D8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73BA-54AC-4C73-AA6A-475FF022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401-91BF-4B55-9931-8A2DD4FE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7183-4B48-4B06-BD88-833D1F0C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580-C4BA-428C-A0D8-96BE5AD4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BB1-F654-4E23-80C8-A2B3B61A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2A0-B3D0-4977-AE1E-C9400C8F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2A2-317E-4147-AF8F-19CE76A9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88D-61B2-447D-A412-8193E1A7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9F0-22ED-4916-B66A-32D168FA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26A-3081-415A-A06D-39974DAC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9CED-9B84-4CCB-9656-4423E38A7C0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彈琴歌唱讚美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raise Hi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彈琴歌唱讚美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raise Hi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彈琴歌唱讚美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raise Hi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3:28:56Z</dcterms:created>
  <dc:creator> </dc:creator>
  <dc:description/>
  <dc:language>en-US</dc:language>
  <cp:lastModifiedBy> </cp:lastModifiedBy>
  <dcterms:modified xsi:type="dcterms:W3CDTF">2004-06-16T23:29:03Z</dcterms:modified>
  <cp:revision>1</cp:revision>
  <dc:subject/>
  <dc:title>彈琴歌唱讚美你 &lt;1/3&gt; Praise Him!</dc:title>
</cp:coreProperties>
</file>